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12.jpeg" ContentType="image/jpeg"/>
  <Override PartName="/ppt/media/image34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37.png" ContentType="image/png"/>
  <Override PartName="/ppt/media/image36.png" ContentType="image/png"/>
  <Override PartName="/ppt/media/image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B000-3AEC-48B4-84F4-6E660C5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F53A-8256-42B5-9CE3-59AA703F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8D-F676-4E24-8351-AEFEFCD84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A419-B0FA-4F0D-9916-4B4F868A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0989-6B0E-4138-B50E-5373C924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AB97-316E-4F46-BAF8-C282EB3E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7259-BE88-49BC-86F7-42F9AF55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EBD8-E702-43F3-8B76-22638435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86B-D0F6-4FD7-8234-6837994C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AA75-8D2D-4D01-9805-B5CB8929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E2E3-3CF2-48F9-800B-4D224E67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40EF-7833-40EB-B65D-4148D521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23CB-7A42-437D-855F-D81BC4A3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45C5-D018-456C-9D28-21422CD1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D329-F92D-42FE-ADCC-38583EBB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687B-B1E2-45A6-9379-5D95CD0FD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E0D0-372D-4E5F-B576-615B8891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D8A56-75EE-4D5B-9307-812198E4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DD1A-3C03-4111-B2AD-A58CFDA7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22591-799A-47C1-AD88-DF2B6EAC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F39FC-8B82-4CD4-ADD7-E11038D1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D42FA-B1ED-439A-AB0B-8487F999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42FF-1B90-4851-B585-79AD5989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70958-D171-4FA1-A6C6-85D08F5E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9E8E4-4F33-47AF-BD47-1D1B791B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A928F-3A37-441A-9BF9-F06BDEE6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295C-C047-4845-B64C-2236B76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7C97-5FB0-4DF0-BD28-381586CE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8A86-4D96-457F-98C8-236D938A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3DA9-B982-492C-8D55-D7DDBDF9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59FA8-E260-4B42-87A2-5509B8BA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DDA11-2B3A-4833-8CE2-0F23361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4478D-283B-4C79-89CB-28B630B0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AD0-925A-4B98-945F-53D41B16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E600E-F9A2-49F9-A121-9FE458D6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040FD-09E7-40A9-8D54-35F44C5E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B8834-647A-45F8-8D59-09289C10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4C82A-A274-470B-8652-BC5401FE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12B26-90E9-4D56-8ADD-246262A4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1139-813C-4D0C-B24F-38DBD4E5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CAC05-8BB4-4B9A-B9A1-EE2E37D1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4CD12-F57C-4767-BFBA-41D12941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FDE4-16A3-4790-977B-B94586E4D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589-4861-419E-8562-C44C4931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5BA-BF62-4744-BF6F-E9D1A39A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E131-0981-4090-B145-17AEDED2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582E-6C68-4D88-90EC-3E615B0B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D8A-75B2-4367-90DE-E021210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BF44-B618-4D37-9A04-958D2008E058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4802-D017-419A-8611-6FE7D0ADDC05}" type="slidenum">
              <a:rPr b="0" lang="ru-RU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BCD7-48F4-4681-BE78-5D6FE000CD57}" type="slidenum">
              <a:rPr b="0" lang="ru-RU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D01C-0539-4D20-B5F5-D390D897F80A}" type="slidenum">
              <a:rPr b="0" lang="ru-RU" sz="1200" spc="-1" strike="noStrike">
                <a:solidFill>
                  <a:srgbClr val="045c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barto_lubitel_rybalov"/>
          <p:cNvPicPr/>
          <p:nvPr/>
        </p:nvPicPr>
        <p:blipFill>
          <a:blip r:embed="rId1"/>
          <a:stretch/>
        </p:blipFill>
        <p:spPr>
          <a:xfrm>
            <a:off x="6243480" y="2786040"/>
            <a:ext cx="2900520" cy="36306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324000" y="907920"/>
            <a:ext cx="724824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Волшебная страна подводного царства»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рыбки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f5f9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WordArt 5"/>
          <p:cNvSpPr txBox="1"/>
          <p:nvPr/>
        </p:nvSpPr>
        <p:spPr>
          <a:xfrm>
            <a:off x="4643280" y="5445000"/>
            <a:ext cx="39150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2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2"/>
          <p:cNvGrpSpPr/>
          <p:nvPr/>
        </p:nvGrpSpPr>
        <p:grpSpPr>
          <a:xfrm>
            <a:off x="826920" y="1052640"/>
            <a:ext cx="6911640" cy="4319280"/>
            <a:chOff x="826920" y="1052640"/>
            <a:chExt cx="6911640" cy="4319280"/>
          </a:xfrm>
        </p:grpSpPr>
        <p:pic>
          <p:nvPicPr>
            <p:cNvPr id="225" name="Picture 3" descr="рыбка 3"/>
            <p:cNvPicPr/>
            <p:nvPr/>
          </p:nvPicPr>
          <p:blipFill>
            <a:blip r:embed="rId1"/>
            <a:stretch/>
          </p:blipFill>
          <p:spPr>
            <a:xfrm>
              <a:off x="826920" y="1052640"/>
              <a:ext cx="6911640" cy="43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4" descr="рыбка - копия (2)"/>
            <p:cNvPicPr/>
            <p:nvPr/>
          </p:nvPicPr>
          <p:blipFill>
            <a:blip r:embed="rId2"/>
            <a:stretch/>
          </p:blipFill>
          <p:spPr>
            <a:xfrm>
              <a:off x="830880" y="4125960"/>
              <a:ext cx="1200600" cy="1156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755640" y="1052640"/>
            <a:ext cx="7056000" cy="4463640"/>
            <a:chOff x="755640" y="1052640"/>
            <a:chExt cx="7056000" cy="4463640"/>
          </a:xfrm>
        </p:grpSpPr>
        <p:pic>
          <p:nvPicPr>
            <p:cNvPr id="228" name="Picture 3" descr="рыбка 2"/>
            <p:cNvPicPr/>
            <p:nvPr/>
          </p:nvPicPr>
          <p:blipFill>
            <a:blip r:embed="rId1"/>
            <a:stretch/>
          </p:blipFill>
          <p:spPr>
            <a:xfrm>
              <a:off x="755640" y="1052640"/>
              <a:ext cx="7056000" cy="44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" descr="рыбка - копия (3)"/>
            <p:cNvPicPr/>
            <p:nvPr/>
          </p:nvPicPr>
          <p:blipFill>
            <a:blip r:embed="rId2"/>
            <a:stretch/>
          </p:blipFill>
          <p:spPr>
            <a:xfrm>
              <a:off x="755640" y="4228200"/>
              <a:ext cx="1145880" cy="1248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4"/>
          <p:cNvGrpSpPr/>
          <p:nvPr/>
        </p:nvGrpSpPr>
        <p:grpSpPr>
          <a:xfrm>
            <a:off x="1042920" y="-27000"/>
            <a:ext cx="5329440" cy="3456000"/>
            <a:chOff x="1042920" y="-27000"/>
            <a:chExt cx="5329440" cy="3456000"/>
          </a:xfrm>
        </p:grpSpPr>
        <p:pic>
          <p:nvPicPr>
            <p:cNvPr id="233" name="Picture 5" descr="lalbum_1910155019"/>
            <p:cNvPicPr/>
            <p:nvPr/>
          </p:nvPicPr>
          <p:blipFill>
            <a:blip r:embed="rId2"/>
            <a:srcRect l="14579" t="2037" r="27867" b="0"/>
            <a:stretch/>
          </p:blipFill>
          <p:spPr>
            <a:xfrm>
              <a:off x="1042920" y="57240"/>
              <a:ext cx="3111480" cy="3245760"/>
            </a:xfrm>
            <a:prstGeom prst="rect">
              <a:avLst/>
            </a:prstGeom>
            <a:ln w="50760">
              <a:solidFill>
                <a:srgbClr val="85dfd0"/>
              </a:solidFill>
              <a:miter/>
            </a:ln>
          </p:spPr>
        </p:pic>
        <p:pic>
          <p:nvPicPr>
            <p:cNvPr id="234" name="Picture 6" descr="41a284796c53"/>
            <p:cNvPicPr/>
            <p:nvPr/>
          </p:nvPicPr>
          <p:blipFill>
            <a:blip r:embed="rId3"/>
            <a:srcRect l="50190" t="0" r="0" b="0"/>
            <a:stretch/>
          </p:blipFill>
          <p:spPr>
            <a:xfrm>
              <a:off x="4293360" y="-27000"/>
              <a:ext cx="2079000" cy="345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Group 7"/>
          <p:cNvGrpSpPr/>
          <p:nvPr/>
        </p:nvGrpSpPr>
        <p:grpSpPr>
          <a:xfrm>
            <a:off x="1047600" y="3574800"/>
            <a:ext cx="5180040" cy="3166920"/>
            <a:chOff x="1047600" y="3574800"/>
            <a:chExt cx="5180040" cy="3166920"/>
          </a:xfrm>
        </p:grpSpPr>
        <p:pic>
          <p:nvPicPr>
            <p:cNvPr id="236" name="Picture 8" descr="19_stories_illustrations!!!!!!!!!!!!!!!!!"/>
            <p:cNvPicPr/>
            <p:nvPr/>
          </p:nvPicPr>
          <p:blipFill>
            <a:blip r:embed="rId4"/>
            <a:srcRect l="0" t="2362" r="2849" b="6496"/>
            <a:stretch/>
          </p:blipFill>
          <p:spPr>
            <a:xfrm>
              <a:off x="1047600" y="3575160"/>
              <a:ext cx="3112920" cy="3087360"/>
            </a:xfrm>
            <a:prstGeom prst="rect">
              <a:avLst/>
            </a:prstGeom>
            <a:ln w="50760">
              <a:solidFill>
                <a:srgbClr val="dbf5f9"/>
              </a:solidFill>
              <a:miter/>
            </a:ln>
          </p:spPr>
        </p:pic>
        <p:pic>
          <p:nvPicPr>
            <p:cNvPr id="237" name="Picture 9" descr="41a284796c53"/>
            <p:cNvPicPr/>
            <p:nvPr/>
          </p:nvPicPr>
          <p:blipFill>
            <a:blip r:embed="rId5"/>
            <a:srcRect l="0" t="0" r="48786" b="0"/>
            <a:stretch/>
          </p:blipFill>
          <p:spPr>
            <a:xfrm rot="10800000">
              <a:off x="4237560" y="3574800"/>
              <a:ext cx="1990080" cy="316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3" descr="barto_lubitel_rybalov_1"/>
          <p:cNvPicPr/>
          <p:nvPr/>
        </p:nvPicPr>
        <p:blipFill>
          <a:blip r:embed="rId1"/>
          <a:stretch/>
        </p:blipFill>
        <p:spPr>
          <a:xfrm>
            <a:off x="5572080" y="2562120"/>
            <a:ext cx="3571920" cy="4295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рыбка"/>
          <p:cNvPicPr/>
          <p:nvPr/>
        </p:nvPicPr>
        <p:blipFill>
          <a:blip r:embed="rId2"/>
          <a:stretch/>
        </p:blipFill>
        <p:spPr>
          <a:xfrm rot="21178200">
            <a:off x="394920" y="188640"/>
            <a:ext cx="684072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солнышко"/>
          <p:cNvPicPr/>
          <p:nvPr/>
        </p:nvPicPr>
        <p:blipFill>
          <a:blip r:embed="rId1"/>
          <a:stretch/>
        </p:blipFill>
        <p:spPr>
          <a:xfrm>
            <a:off x="2556000" y="333360"/>
            <a:ext cx="4029120" cy="4032360"/>
          </a:xfrm>
          <a:prstGeom prst="rect">
            <a:avLst/>
          </a:prstGeom>
          <a:ln w="0">
            <a:noFill/>
          </a:ln>
        </p:spPr>
      </p:pic>
      <p:sp>
        <p:nvSpPr>
          <p:cNvPr id="241" name="WordArt 5"/>
          <p:cNvSpPr txBox="1"/>
          <p:nvPr/>
        </p:nvSpPr>
        <p:spPr>
          <a:xfrm>
            <a:off x="2124000" y="4437000"/>
            <a:ext cx="48243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дачной работы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6" descr="C:\Users\User\Desktop\7-65.jpg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1" name="Picture 6" descr="C:\Users\User\Desktop\qPtaWBaCOvWHPWm1aQcVBrF2-xXap4j-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rus_kisegach_ozero-kisegach"/>
          <p:cNvPicPr/>
          <p:nvPr/>
        </p:nvPicPr>
        <p:blipFill>
          <a:blip r:embed="rId1"/>
          <a:stretch/>
        </p:blipFill>
        <p:spPr>
          <a:xfrm>
            <a:off x="4857840" y="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203" name="любитель рыболов.mp3" descr=""/>
          <p:cNvPicPr/>
          <p:nvPr/>
        </p:nvPicPr>
        <p:blipFill>
          <a:blip r:embed="rId2"/>
          <a:stretch/>
        </p:blipFill>
        <p:spPr>
          <a:xfrm>
            <a:off x="-5414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User\Desktop\РАБОЧИЕ ДОКУМЕНТЫ\Мое\Новая папка\картинки\Природа\Острова, океан\09 (2).jpg"/>
          <p:cNvPicPr/>
          <p:nvPr/>
        </p:nvPicPr>
        <p:blipFill>
          <a:blip r:embed="rId3"/>
          <a:stretch/>
        </p:blipFill>
        <p:spPr>
          <a:xfrm>
            <a:off x="0" y="0"/>
            <a:ext cx="4929120" cy="3529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User\Desktop\РАБОЧИЕ ДОКУМЕНТЫ\Мое\Новая папка\картинки\Природа\Острова, океан\07 (2).jpg"/>
          <p:cNvPicPr/>
          <p:nvPr/>
        </p:nvPicPr>
        <p:blipFill>
          <a:blip r:embed="rId4"/>
          <a:stretch/>
        </p:blipFill>
        <p:spPr>
          <a:xfrm>
            <a:off x="4648320" y="3286080"/>
            <a:ext cx="4495680" cy="357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Щука"/>
          <p:cNvPicPr/>
          <p:nvPr/>
        </p:nvPicPr>
        <p:blipFill>
          <a:blip r:embed="rId5"/>
          <a:stretch/>
        </p:blipFill>
        <p:spPr>
          <a:xfrm>
            <a:off x="0" y="328608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6" descr="5D49F7131C4E-3"/>
          <p:cNvPicPr/>
          <p:nvPr/>
        </p:nvPicPr>
        <p:blipFill>
          <a:blip r:embed="rId1"/>
          <a:stretch/>
        </p:blipFill>
        <p:spPr>
          <a:xfrm>
            <a:off x="0" y="3429000"/>
            <a:ext cx="421488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0_79fa_6b39b352_L"/>
          <p:cNvPicPr/>
          <p:nvPr/>
        </p:nvPicPr>
        <p:blipFill>
          <a:blip r:embed="rId2"/>
          <a:stretch/>
        </p:blipFill>
        <p:spPr>
          <a:xfrm>
            <a:off x="0" y="21420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0_fc42_ad25db1c_XL"/>
          <p:cNvPicPr/>
          <p:nvPr/>
        </p:nvPicPr>
        <p:blipFill>
          <a:blip r:embed="rId3"/>
          <a:stretch/>
        </p:blipFill>
        <p:spPr>
          <a:xfrm>
            <a:off x="4500720" y="3070080"/>
            <a:ext cx="4357440" cy="3611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49155"/>
          <p:cNvPicPr/>
          <p:nvPr/>
        </p:nvPicPr>
        <p:blipFill>
          <a:blip r:embed="rId4"/>
          <a:stretch/>
        </p:blipFill>
        <p:spPr>
          <a:xfrm>
            <a:off x="4429080" y="214200"/>
            <a:ext cx="471492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3" name="Picture 5" descr="Solid Red Parrot2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DSCN0651_800"/>
          <p:cNvPicPr/>
          <p:nvPr/>
        </p:nvPicPr>
        <p:blipFill>
          <a:blip r:embed="rId2"/>
          <a:stretch/>
        </p:blipFill>
        <p:spPr>
          <a:xfrm>
            <a:off x="4762440" y="357192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2352150"/>
          <p:cNvPicPr/>
          <p:nvPr/>
        </p:nvPicPr>
        <p:blipFill>
          <a:blip r:embed="rId3"/>
          <a:stretch/>
        </p:blipFill>
        <p:spPr>
          <a:xfrm>
            <a:off x="0" y="3429000"/>
            <a:ext cx="4857840" cy="3429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www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8" name="Picture 5" descr="C:\Users\User\Desktop\8321_54321_ac25a8d009.jpg"/>
          <p:cNvPicPr/>
          <p:nvPr/>
        </p:nvPicPr>
        <p:blipFill>
          <a:blip r:embed="rId1"/>
          <a:stretch/>
        </p:blipFill>
        <p:spPr>
          <a:xfrm>
            <a:off x="4214880" y="0"/>
            <a:ext cx="4929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User\Desktop\739640268.jpg"/>
          <p:cNvPicPr/>
          <p:nvPr/>
        </p:nvPicPr>
        <p:blipFill>
          <a:blip r:embed="rId2"/>
          <a:stretch/>
        </p:blipFill>
        <p:spPr>
          <a:xfrm>
            <a:off x="0" y="0"/>
            <a:ext cx="4286160" cy="30733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C:\Users\User\Desktop\b58a9619a24368622b4f9417d4906eca--archaeology-color-inspiration.jpg"/>
          <p:cNvPicPr/>
          <p:nvPr/>
        </p:nvPicPr>
        <p:blipFill>
          <a:blip r:embed="rId3"/>
          <a:stretch/>
        </p:blipFill>
        <p:spPr>
          <a:xfrm>
            <a:off x="-209520" y="3071880"/>
            <a:ext cx="44956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рыбка"/>
          <p:cNvPicPr/>
          <p:nvPr/>
        </p:nvPicPr>
        <p:blipFill>
          <a:blip r:embed="rId1"/>
          <a:stretch/>
        </p:blipFill>
        <p:spPr>
          <a:xfrm>
            <a:off x="1979640" y="1628640"/>
            <a:ext cx="6840360" cy="46483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664400" cy="188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dbf5f9"/>
                </a:solidFill>
                <a:latin typeface="Calibri"/>
              </a:rPr>
              <a:t>Как нарисовать рыбку? Это не так трудно. Возьмите в руки карандаш. Не забывайте, что рисовать нужно плавно, легкими штрихами, едва касаясь бумаги. Итак, рисуем по картинке.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рыбка 1"/>
          <p:cNvPicPr/>
          <p:nvPr/>
        </p:nvPicPr>
        <p:blipFill>
          <a:blip r:embed="rId1"/>
          <a:stretch/>
        </p:blipFill>
        <p:spPr>
          <a:xfrm>
            <a:off x="826920" y="907920"/>
            <a:ext cx="7162920" cy="456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9T12:02:55Z</dcterms:created>
  <dc:creator>sweta</dc:creator>
  <dc:description/>
  <dc:language>en-US</dc:language>
  <cp:lastModifiedBy>User</cp:lastModifiedBy>
  <dcterms:modified xsi:type="dcterms:W3CDTF">2021-02-16T12:17:31Z</dcterms:modified>
  <cp:revision>13</cp:revision>
  <dc:subject/>
  <dc:title>Слайд 1</dc:title>
</cp:coreProperties>
</file>